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wmf" ContentType="image/x-wmf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9.wmf" ContentType="image/x-wmf"/>
  <Override PartName="/ppt/media/image14.png" ContentType="image/png"/>
  <Override PartName="/ppt/media/image23.wmf" ContentType="image/x-wmf"/>
  <Override PartName="/ppt/media/image18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7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C891A-2A5E-4ADF-A4A9-29F21798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68F32-3ACF-4042-9B70-640C9CFA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7F81F-91CF-4930-A878-0E5D4467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14DD8-E013-4A33-BDEA-EEB948A1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6BC5E-547D-4E5A-97A6-327CCA49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78B4A-20A9-4975-8E0C-2A85655E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6E33A-48AF-43DA-8514-936BCDA0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06726-9382-4470-B6F9-085CB9A2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93FE7-F27F-4458-94B0-96CB084B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24390-58CB-45B9-936F-EE618AFC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A6D1C-FDE2-4C22-9E13-2189DADB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5F3EC-5FFD-4CD5-87D9-A9249934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67648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63680" y="1542960"/>
            <a:ext cx="638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63680" y="1542960"/>
            <a:ext cx="62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63680" y="1371600"/>
            <a:ext cx="621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" name="strapline" descr="catch the light"/>
          <p:cNvPicPr/>
          <p:nvPr/>
        </p:nvPicPr>
        <p:blipFill>
          <a:blip r:embed="rId2"/>
          <a:stretch/>
        </p:blipFill>
        <p:spPr>
          <a:xfrm>
            <a:off x="6853320" y="0"/>
            <a:ext cx="2079720" cy="628560"/>
          </a:xfrm>
          <a:prstGeom prst="rect">
            <a:avLst/>
          </a:prstGeom>
          <a:ln w="0">
            <a:noFill/>
          </a:ln>
        </p:spPr>
      </p:pic>
      <p:pic>
        <p:nvPicPr>
          <p:cNvPr id="5" name="logo" descr="electron tubes"/>
          <p:cNvPicPr/>
          <p:nvPr/>
        </p:nvPicPr>
        <p:blipFill>
          <a:blip r:embed="rId3"/>
          <a:stretch/>
        </p:blipFill>
        <p:spPr>
          <a:xfrm>
            <a:off x="7504200" y="6205680"/>
            <a:ext cx="1839960" cy="628560"/>
          </a:xfrm>
          <a:prstGeom prst="rect">
            <a:avLst/>
          </a:prstGeom>
          <a:ln w="0">
            <a:noFill/>
          </a:ln>
        </p:spPr>
      </p:pic>
      <p:pic>
        <p:nvPicPr>
          <p:cNvPr id="6" name="narrow_GraphicStrip_yellow" descr="electron tubes"/>
          <p:cNvPicPr/>
          <p:nvPr/>
        </p:nvPicPr>
        <p:blipFill>
          <a:blip r:embed="rId4"/>
          <a:stretch/>
        </p:blipFill>
        <p:spPr>
          <a:xfrm>
            <a:off x="0" y="585720"/>
            <a:ext cx="9144000" cy="5144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771560" indent="-22860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46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48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dt" idx="2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3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4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CA1D-D1CA-4CA0-9735-B9609C5E874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84320" y="5830920"/>
            <a:ext cx="5867280" cy="9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NNN05</a:t>
            </a: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600"/>
            </a:b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Next Generation of Nucleon Decay and Neutrino Detectors</a:t>
            </a:r>
            <a:br>
              <a:rPr sz="1600"/>
            </a:br>
            <a:r>
              <a:rPr b="1" lang="en-GB" sz="1600" spc="-1" strike="noStrike">
                <a:solidFill>
                  <a:srgbClr val="003366"/>
                </a:solidFill>
                <a:latin typeface="Arial"/>
              </a:rPr>
              <a:t>7-9 April 2005, Aussois, Savoie, France</a:t>
            </a:r>
            <a:br>
              <a:rPr sz="2400"/>
            </a:b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0520" y="2873520"/>
            <a:ext cx="8219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detector considerations for neutrino physic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Tony Wright, Electron Tubes Limited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74880" y="104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8600" y="10807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ower supply outli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FIG1" descr=""/>
          <p:cNvPicPr/>
          <p:nvPr/>
        </p:nvPicPr>
        <p:blipFill>
          <a:blip r:embed="rId1"/>
          <a:stretch/>
        </p:blipFill>
        <p:spPr>
          <a:xfrm>
            <a:off x="527040" y="2077920"/>
            <a:ext cx="3041640" cy="2700360"/>
          </a:xfrm>
          <a:prstGeom prst="rect">
            <a:avLst/>
          </a:prstGeom>
          <a:ln w="0">
            <a:noFill/>
          </a:ln>
        </p:spPr>
      </p:pic>
      <p:pic>
        <p:nvPicPr>
          <p:cNvPr id="215" name="FIG2" descr=""/>
          <p:cNvPicPr/>
          <p:nvPr/>
        </p:nvPicPr>
        <p:blipFill>
          <a:blip r:embed="rId2"/>
          <a:stretch/>
        </p:blipFill>
        <p:spPr>
          <a:xfrm>
            <a:off x="3733920" y="2687760"/>
            <a:ext cx="2071440" cy="2090520"/>
          </a:xfrm>
          <a:prstGeom prst="rect">
            <a:avLst/>
          </a:prstGeom>
          <a:ln w="0">
            <a:noFill/>
          </a:ln>
        </p:spPr>
      </p:pic>
      <p:pic>
        <p:nvPicPr>
          <p:cNvPr id="216" name="FIG3" descr=""/>
          <p:cNvPicPr/>
          <p:nvPr/>
        </p:nvPicPr>
        <p:blipFill>
          <a:blip r:embed="rId3"/>
          <a:srcRect l="0" t="0" r="50446" b="0"/>
          <a:stretch/>
        </p:blipFill>
        <p:spPr>
          <a:xfrm>
            <a:off x="6378480" y="1955880"/>
            <a:ext cx="1076400" cy="3946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42840" y="52704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S1800/PS1806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84800" y="5270400"/>
            <a:ext cx="14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S2010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35760" y="5888160"/>
            <a:ext cx="12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S200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5440" y="1465200"/>
            <a:ext cx="7624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ptimising photomultiplier performance with low power consumption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080" y="2538000"/>
            <a:ext cx="5962680" cy="26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battery operat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solar powered (Auger, satellite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underwater, under ice, in liquid argo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wo considerations:-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consuming power (voltage divider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providing power (HV suppl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97000" y="1438200"/>
            <a:ext cx="7624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voltage divider consideration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080" y="2538360"/>
            <a:ext cx="8193240" cy="337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Requirement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establish and maintain set of fixed dynode potential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there are two generic types available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traditional resistor configur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active type (FET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The all-resistor divider always fails the requirement if the mean anode current varies significantly.  Active dividers fix the dynode potentials regardless of mean anode current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495440"/>
            <a:ext cx="77724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ctive divider network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active%20divider%20networks" descr=""/>
          <p:cNvPicPr/>
          <p:nvPr/>
        </p:nvPicPr>
        <p:blipFill>
          <a:blip r:embed="rId1"/>
          <a:stretch/>
        </p:blipFill>
        <p:spPr>
          <a:xfrm>
            <a:off x="936720" y="2066760"/>
            <a:ext cx="7813440" cy="4313520"/>
          </a:xfrm>
          <a:prstGeom prst="rect">
            <a:avLst/>
          </a:prstGeom>
          <a:ln w="0">
            <a:noFill/>
          </a:ln>
        </p:spPr>
      </p:pic>
      <p:pic>
        <p:nvPicPr>
          <p:cNvPr id="226" name="etl" descr=""/>
          <p:cNvPicPr/>
          <p:nvPr/>
        </p:nvPicPr>
        <p:blipFill>
          <a:blip r:embed="rId2"/>
          <a:stretch/>
        </p:blipFill>
        <p:spPr>
          <a:xfrm>
            <a:off x="7764480" y="6134040"/>
            <a:ext cx="10033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chematics" descr=""/>
          <p:cNvPicPr/>
          <p:nvPr/>
        </p:nvPicPr>
        <p:blipFill>
          <a:blip r:embed="rId1"/>
          <a:srcRect l="2137" t="0" r="0" b="0"/>
          <a:stretch/>
        </p:blipFill>
        <p:spPr>
          <a:xfrm>
            <a:off x="623880" y="1123920"/>
            <a:ext cx="7083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graph" descr=""/>
          <p:cNvPicPr/>
          <p:nvPr/>
        </p:nvPicPr>
        <p:blipFill>
          <a:blip r:embed="rId1"/>
          <a:stretch/>
        </p:blipFill>
        <p:spPr>
          <a:xfrm>
            <a:off x="939960" y="1776240"/>
            <a:ext cx="7368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7640" y="1426680"/>
            <a:ext cx="77724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ower suppl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87240" y="2397240"/>
          <a:ext cx="7694640" cy="2238120"/>
        </p:xfrm>
        <a:graphic>
          <a:graphicData uri="http://schemas.openxmlformats.org/drawingml/2006/table">
            <a:tbl>
              <a:tblPr/>
              <a:tblGrid>
                <a:gridCol w="1865520"/>
                <a:gridCol w="1944360"/>
                <a:gridCol w="1941840"/>
                <a:gridCol w="1942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put power (mW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fficienc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utput curr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18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a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 2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2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180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a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 2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201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4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D0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= 1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S200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8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D0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= 1000 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8280" y="13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high voltage supply and control system – HVSys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832040"/>
            <a:ext cx="5962680" cy="26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multichannel power supply syste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ndividual channel control and monitori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S485 interfac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equires only single +12V suppl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843200" y="3076560"/>
            <a:ext cx="5267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338120" y="1371600"/>
            <a:ext cx="6535800" cy="3500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438200" y="5256360"/>
            <a:ext cx="70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Arial"/>
              </a:rPr>
              <a:t>functional diagram of 1 channel.  The hardware shown is integrated within each power base enclosure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32040" y="1743120"/>
            <a:ext cx="70945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9800" y="1395000"/>
            <a:ext cx="657036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detector considerations for neutrino phys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03040"/>
            <a:ext cx="7772400" cy="407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light detection: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large solid angle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large cathode are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long operating lif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high gain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well-resolved S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fast timing and freedom from artefac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pressure resista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chemically inert glass – free from radioisotop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low temperature operation</a:t>
            </a:r>
            <a:r>
              <a:rPr b="1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power considerations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high voltage supplies and contro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Arial"/>
              </a:rPr>
              <a:t>voltage divider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fastpmts" descr=""/>
          <p:cNvPicPr/>
          <p:nvPr/>
        </p:nvPicPr>
        <p:blipFill>
          <a:blip r:embed="rId1"/>
          <a:stretch/>
        </p:blipFill>
        <p:spPr>
          <a:xfrm>
            <a:off x="6335640" y="2911320"/>
            <a:ext cx="2122560" cy="1719360"/>
          </a:xfrm>
          <a:prstGeom prst="rect">
            <a:avLst/>
          </a:prstGeom>
          <a:ln w="0">
            <a:noFill/>
          </a:ln>
        </p:spPr>
      </p:pic>
      <p:pic>
        <p:nvPicPr>
          <p:cNvPr id="192" name="hemix3" descr=""/>
          <p:cNvPicPr/>
          <p:nvPr/>
        </p:nvPicPr>
        <p:blipFill>
          <a:blip r:embed="rId2"/>
          <a:stretch/>
        </p:blipFill>
        <p:spPr>
          <a:xfrm>
            <a:off x="4991040" y="1932120"/>
            <a:ext cx="1779480" cy="1935000"/>
          </a:xfrm>
          <a:prstGeom prst="rect">
            <a:avLst/>
          </a:prstGeom>
          <a:ln w="0">
            <a:noFill/>
          </a:ln>
        </p:spPr>
      </p:pic>
      <p:pic>
        <p:nvPicPr>
          <p:cNvPr id="193" name="PS1250" descr=""/>
          <p:cNvPicPr/>
          <p:nvPr/>
        </p:nvPicPr>
        <p:blipFill>
          <a:blip r:embed="rId3"/>
          <a:stretch/>
        </p:blipFill>
        <p:spPr>
          <a:xfrm>
            <a:off x="4640400" y="4413240"/>
            <a:ext cx="1236600" cy="1047600"/>
          </a:xfrm>
          <a:prstGeom prst="rect">
            <a:avLst/>
          </a:prstGeom>
          <a:ln w="0">
            <a:noFill/>
          </a:ln>
        </p:spPr>
      </p:pic>
      <p:pic>
        <p:nvPicPr>
          <p:cNvPr id="194" name="PS20101" descr=""/>
          <p:cNvPicPr/>
          <p:nvPr/>
        </p:nvPicPr>
        <p:blipFill>
          <a:blip r:embed="rId4"/>
          <a:stretch/>
        </p:blipFill>
        <p:spPr>
          <a:xfrm>
            <a:off x="5657760" y="4987800"/>
            <a:ext cx="22258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781280" y="1884240"/>
            <a:ext cx="55497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9800" y="1395000"/>
            <a:ext cx="657036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detector considerations for neutrino phys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003040"/>
            <a:ext cx="7772400" cy="407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Ron Stubberfiel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ron.stubberfield@electron-tubes.co.u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Tony Wrigh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tony.wright@electron-tubes.co.u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available to discuss your particular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0" name="fastpmts" descr=""/>
          <p:cNvPicPr/>
          <p:nvPr/>
        </p:nvPicPr>
        <p:blipFill>
          <a:blip r:embed="rId1"/>
          <a:stretch/>
        </p:blipFill>
        <p:spPr>
          <a:xfrm>
            <a:off x="6335640" y="2911320"/>
            <a:ext cx="2122560" cy="1719360"/>
          </a:xfrm>
          <a:prstGeom prst="rect">
            <a:avLst/>
          </a:prstGeom>
          <a:ln w="0">
            <a:noFill/>
          </a:ln>
        </p:spPr>
      </p:pic>
      <p:pic>
        <p:nvPicPr>
          <p:cNvPr id="241" name="hemix3" descr=""/>
          <p:cNvPicPr/>
          <p:nvPr/>
        </p:nvPicPr>
        <p:blipFill>
          <a:blip r:embed="rId2"/>
          <a:stretch/>
        </p:blipFill>
        <p:spPr>
          <a:xfrm>
            <a:off x="4991040" y="1932120"/>
            <a:ext cx="1779480" cy="1935000"/>
          </a:xfrm>
          <a:prstGeom prst="rect">
            <a:avLst/>
          </a:prstGeom>
          <a:ln w="0">
            <a:noFill/>
          </a:ln>
        </p:spPr>
      </p:pic>
      <p:pic>
        <p:nvPicPr>
          <p:cNvPr id="242" name="PS1250" descr=""/>
          <p:cNvPicPr/>
          <p:nvPr/>
        </p:nvPicPr>
        <p:blipFill>
          <a:blip r:embed="rId3"/>
          <a:stretch/>
        </p:blipFill>
        <p:spPr>
          <a:xfrm>
            <a:off x="4640400" y="4413240"/>
            <a:ext cx="1236600" cy="1047600"/>
          </a:xfrm>
          <a:prstGeom prst="rect">
            <a:avLst/>
          </a:prstGeom>
          <a:ln w="0">
            <a:noFill/>
          </a:ln>
        </p:spPr>
      </p:pic>
      <p:pic>
        <p:nvPicPr>
          <p:cNvPr id="243" name="PS20101" descr=""/>
          <p:cNvPicPr/>
          <p:nvPr/>
        </p:nvPicPr>
        <p:blipFill>
          <a:blip r:embed="rId4"/>
          <a:stretch/>
        </p:blipFill>
        <p:spPr>
          <a:xfrm>
            <a:off x="5657760" y="4987800"/>
            <a:ext cx="22258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fastpmts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789600" y="2546280"/>
            <a:ext cx="2122560" cy="1719360"/>
          </a:xfrm>
          <a:prstGeom prst="rect">
            <a:avLst/>
          </a:prstGeom>
          <a:ln w="0">
            <a:noFill/>
          </a:ln>
        </p:spPr>
      </p:pic>
      <p:pic>
        <p:nvPicPr>
          <p:cNvPr id="196" name="hemix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445000" y="1566720"/>
            <a:ext cx="1779840" cy="19353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39480" y="1566720"/>
            <a:ext cx="51051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range of hemispherical photomultiplier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161800"/>
            <a:ext cx="77724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ype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d(mm)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     dynodes                 σ(τ) ns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comme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11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.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high light leve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114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.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11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8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.1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high light levels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7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4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high light leve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3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chemically iner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4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ultra low background 5 At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5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-200 </a:t>
            </a:r>
            <a:r>
              <a:rPr b="1" lang="en-GB" sz="1400" spc="-1" strike="noStrike" baseline="30000">
                <a:solidFill>
                  <a:srgbClr val="003366"/>
                </a:solidFill>
                <a:latin typeface="Arial"/>
                <a:ea typeface="Times New Roman"/>
              </a:rPr>
              <a:t>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C oper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D73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7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D738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.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36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8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.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09840"/>
            <a:ext cx="2739960" cy="53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glass characteristic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71640"/>
            <a:ext cx="4773600" cy="423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hickness:  ranges from 2 to 4 m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pressure:  2 to 5 atmospher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radionuclides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ype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K(ppm)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h(ppb)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U(ppb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8246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B53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6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B47.2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3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25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0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8245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4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900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110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04800"/>
                <a:tab algn="l" pos="1209600"/>
                <a:tab algn="l" pos="1814400"/>
                <a:tab algn="l" pos="2419200"/>
                <a:tab algn="l" pos="3024360"/>
                <a:tab algn="l" pos="3629160"/>
                <a:tab algn="l" pos="4233960"/>
                <a:tab algn="l" pos="4838760"/>
                <a:tab algn="l" pos="5443560"/>
                <a:tab algn="l" pos="6048360"/>
                <a:tab algn="l" pos="6653160"/>
                <a:tab algn="l" pos="7257960"/>
                <a:tab algn="l" pos="7862760"/>
                <a:tab algn="l" pos="8467560"/>
                <a:tab algn="l" pos="9072720"/>
                <a:tab algn="l" pos="9677520"/>
                <a:tab algn="l" pos="10282320"/>
                <a:tab algn="l" pos="1088712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windows4" descr=""/>
          <p:cNvPicPr/>
          <p:nvPr/>
        </p:nvPicPr>
        <p:blipFill>
          <a:blip r:embed="rId1"/>
          <a:stretch/>
        </p:blipFill>
        <p:spPr>
          <a:xfrm>
            <a:off x="6016680" y="1509840"/>
            <a:ext cx="28764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306000" cy="5718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10040" y="125244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ingle electron response S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Lubsandorzhiev" descr=""/>
          <p:cNvPicPr/>
          <p:nvPr/>
        </p:nvPicPr>
        <p:blipFill>
          <a:blip r:embed="rId1"/>
          <a:stretch/>
        </p:blipFill>
        <p:spPr>
          <a:xfrm>
            <a:off x="2247840" y="1797120"/>
            <a:ext cx="4943520" cy="4714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4120" y="1413000"/>
            <a:ext cx="37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ing distribu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StdCathodes%20for%20AGW%20presentation" descr=""/>
          <p:cNvPicPr/>
          <p:nvPr/>
        </p:nvPicPr>
        <p:blipFill>
          <a:blip r:embed="rId1"/>
          <a:stretch/>
        </p:blipFill>
        <p:spPr>
          <a:xfrm>
            <a:off x="260280" y="1590840"/>
            <a:ext cx="16733880" cy="88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33320" y="1357200"/>
            <a:ext cx="34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ife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23920" y="1925640"/>
          <a:ext cx="6896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1925640"/>
                    <a:ext cx="6896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1200" y="1464840"/>
            <a:ext cx="514692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ower suppl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39360" y="2517480"/>
            <a:ext cx="5962680" cy="26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W type with n individual socket outpu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ctive divider with n individual outpu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w power dc-dc converter with single outpu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dustrial dc-dc converter with single outpu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09:18:06Z</dcterms:created>
  <dc:creator>Giselle Lord</dc:creator>
  <dc:description/>
  <dc:language>en-US</dc:language>
  <cp:lastModifiedBy>glord</cp:lastModifiedBy>
  <cp:lastPrinted>2002-07-29T13:08:12Z</cp:lastPrinted>
  <dcterms:modified xsi:type="dcterms:W3CDTF">2005-04-05T16:03:05Z</dcterms:modified>
  <cp:revision>155</cp:revision>
  <dc:subject/>
  <dc:title>Electron Tubes Product Range</dc:title>
</cp:coreProperties>
</file>